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gif" ContentType="image/gif"/>
  <Override PartName="/ppt/media/image4.gif" ContentType="image/gif"/>
  <Override PartName="/ppt/media/image6.png" ContentType="image/png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7B86-AE0F-4C85-881C-2F80C703B7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4C2A-37B0-45D8-9837-EA59ECF039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98E8-66DE-41F3-A117-389F68C32A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E81F-4DC0-437C-BFBE-9F8D0BC767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63A7-0A9D-4911-A97D-CF6A1B0D89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7DB6-E67C-438F-9EB4-DF27B22EA8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846D-AE1A-4F14-80F5-2F2962D12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DFC1-8C1A-4946-A451-DDB9DAEC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3C84-20B8-45AE-A1E8-8B471AFC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2E20-C764-45D3-97C0-872ED4297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7944-660E-41F3-98EF-DE934E73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773D-5F60-4611-A671-0294CA7F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9FA1-221E-416A-9AA0-DE3BCC1D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20E7-EED7-43EA-810F-D970DB64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65CB-DFD9-4BAC-920C-441FDE9B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B226-6DF3-48F5-AF39-B33A0D4F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A7BF-960F-4262-A4A1-12031329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F886-D4F0-4B2E-A5E5-88833438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9400-42F6-407E-BAF1-A1385A1BC2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89917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apyrus"/>
              </a:rPr>
              <a:t>Maglasang Elementary Schoo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35049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. Gerard Brian E. Maglasa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de 6, Room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e 2011 to March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Papyrus"/>
              </a:rPr>
              <a:t>Subjects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304920" y="1905120"/>
            <a:ext cx="487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pyrus"/>
              </a:rPr>
              <a:t>1. Englis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380880" y="312408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pyrus"/>
              </a:rPr>
              <a:t>2. Mathematic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457200" y="4191120"/>
            <a:ext cx="426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pyrus"/>
              </a:rPr>
              <a:t>3. Scienc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Papyrus"/>
              </a:rPr>
              <a:t>English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0" y="1905120"/>
            <a:ext cx="598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1. Using Compound Senten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0" y="281952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2. Working with Complex Senten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0" y="37339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3. Using Geru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0" y="464832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4. Working with Indefinite Pronou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Program Files\Microsoft Office\MEDIA\CAGCAT10\j0217698.wmf"/>
          <p:cNvPicPr/>
          <p:nvPr/>
        </p:nvPicPr>
        <p:blipFill>
          <a:blip r:embed="rId1"/>
          <a:stretch/>
        </p:blipFill>
        <p:spPr>
          <a:xfrm>
            <a:off x="6558120" y="4021200"/>
            <a:ext cx="2585880" cy="2836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Writting_books"/>
          <p:cNvPicPr/>
          <p:nvPr/>
        </p:nvPicPr>
        <p:blipFill>
          <a:blip r:embed="rId2"/>
          <a:stretch/>
        </p:blipFill>
        <p:spPr>
          <a:xfrm>
            <a:off x="685800" y="0"/>
            <a:ext cx="2095560" cy="1752480"/>
          </a:xfrm>
          <a:prstGeom prst="rect">
            <a:avLst/>
          </a:prstGeom>
          <a:ln w="0">
            <a:noFill/>
          </a:ln>
        </p:spPr>
      </p:pic>
      <p:sp>
        <p:nvSpPr>
          <p:cNvPr id="61" name="Left Arrow 10"/>
          <p:cNvSpPr/>
          <p:nvPr/>
        </p:nvSpPr>
        <p:spPr>
          <a:xfrm>
            <a:off x="228600" y="5943600"/>
            <a:ext cx="1295280" cy="636480"/>
          </a:xfrm>
          <a:prstGeom prst="leftArrow">
            <a:avLst>
              <a:gd name="adj1" fmla="val 50000"/>
              <a:gd name="adj2" fmla="val 5003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Papyrus"/>
              </a:rPr>
              <a:t>Mathematic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0" y="182880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1. Multiplication and Division of Whole Num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0" y="26668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2. Frac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0" y="3581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3. Ratio and Propor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0" y="44197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4. Decim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7"/>
          <p:cNvSpPr/>
          <p:nvPr/>
        </p:nvSpPr>
        <p:spPr>
          <a:xfrm>
            <a:off x="0" y="54100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5. Perc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6" descr="Chart_or_plan"/>
          <p:cNvPicPr/>
          <p:nvPr/>
        </p:nvPicPr>
        <p:blipFill>
          <a:blip r:embed="rId1"/>
          <a:stretch/>
        </p:blipFill>
        <p:spPr>
          <a:xfrm>
            <a:off x="685800" y="0"/>
            <a:ext cx="1676520" cy="1600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teacher_clipart_1"/>
          <p:cNvPicPr/>
          <p:nvPr/>
        </p:nvPicPr>
        <p:blipFill>
          <a:blip r:embed="rId2"/>
          <a:stretch/>
        </p:blipFill>
        <p:spPr>
          <a:xfrm>
            <a:off x="5638680" y="2666880"/>
            <a:ext cx="3276720" cy="4191120"/>
          </a:xfrm>
          <a:prstGeom prst="rect">
            <a:avLst/>
          </a:prstGeom>
          <a:ln w="0">
            <a:noFill/>
          </a:ln>
        </p:spPr>
      </p:pic>
      <p:sp>
        <p:nvSpPr>
          <p:cNvPr id="70" name="Left Arrow 12"/>
          <p:cNvSpPr/>
          <p:nvPr/>
        </p:nvSpPr>
        <p:spPr>
          <a:xfrm>
            <a:off x="457200" y="6172200"/>
            <a:ext cx="1143000" cy="6858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Papyrus"/>
              </a:rPr>
              <a:t>Scienc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0" y="16765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1. The Circulatory and Nervous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0" y="25146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2. Interrelationships in the Eco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0" y="33526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3. Energy in the Environ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0" y="42670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4. Moving Bod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0" y="51055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5. The Changing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5" descr=""/>
          <p:cNvPicPr/>
          <p:nvPr/>
        </p:nvPicPr>
        <p:blipFill>
          <a:blip r:embed="rId1"/>
          <a:stretch/>
        </p:blipFill>
        <p:spPr>
          <a:xfrm>
            <a:off x="5668920" y="4114800"/>
            <a:ext cx="3475080" cy="2171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Mad_scientist_3"/>
          <p:cNvPicPr/>
          <p:nvPr/>
        </p:nvPicPr>
        <p:blipFill>
          <a:blip r:embed="rId2"/>
          <a:stretch/>
        </p:blipFill>
        <p:spPr>
          <a:xfrm>
            <a:off x="609480" y="0"/>
            <a:ext cx="747720" cy="1542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5:19:17Z</dcterms:created>
  <dc:creator>PC</dc:creator>
  <dc:description/>
  <dc:language>en-US</dc:language>
  <cp:lastModifiedBy>PC</cp:lastModifiedBy>
  <dcterms:modified xsi:type="dcterms:W3CDTF">2011-10-11T16:21:39Z</dcterms:modified>
  <cp:revision>7</cp:revision>
  <dc:subject/>
  <dc:title>Maglasang Elementary School</dc:title>
</cp:coreProperties>
</file>